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1AB-0231-45E2-99A5-239029CD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244-BBDB-446E-A78B-921EA12B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4EA8B-7061-4362-8C81-CB8BCCB2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552E4-ECED-4ED1-99A6-C37E2B90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A82FE-57F9-483E-953A-EBBBD5A0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4FD90-FF99-4C10-A87F-C5A33405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5AE53-D21D-41A3-9764-B4DB5006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8CB44-D293-421B-A513-A9B9C1E2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67E94-A9BF-439E-A3A8-D94958D1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3CDCB-8B1E-4026-868B-C57AD789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A11BE-CDD0-4AFB-83F5-92D10C97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37FFB-08E1-4381-888A-6A307D78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AB5-9230-4E2F-AA58-02846D52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7A8A6-6085-40D0-9DFB-5A406022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2E9F2-D0AC-4383-B0B6-5848FA73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623FB-C400-4A36-849B-A9B17D12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80D9F-36F1-4090-A86C-09214320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37D19-7D82-4377-94CA-AE23EF56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DD4AD-770E-4F04-A300-8CCBB68C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C51DE-E230-4088-8C2B-69A45584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20E16-5FA9-4290-BEF0-F8091BD1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6AB34-6444-4637-B13D-86727866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D0A98-DA9B-4658-B9AA-E992EE0C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CAD-7BE3-4DF6-AE89-71588337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5430B-3C98-42F2-A909-D951890E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992A89-A47F-45C0-B3C4-B461FC80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13E16C-A64A-4726-B5B9-EFD86B1B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474226-6C53-4ACB-A7A6-BC52734C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16EAB3-B214-4156-B36C-6F773E43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44EBA7-7DC1-4375-B8CF-F7587FEB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8844E8-F8E3-4DC3-9B9B-75DA18F4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693577-E382-4E66-B1F7-01274650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715231-1E50-4C83-A66E-5C5E2D63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8BF70D-1F1D-4DB5-AD6F-98A8CF7E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2A0D-A826-4687-9F24-5FA191D7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A0AD1E-7E13-449B-82C2-49D39A29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DFDE3A-F07F-474D-BF7D-C7A7875C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964FF7-B96A-4494-AF2F-C321E7B3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B8114-36A0-460D-A794-9408E589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3F732-460C-400A-BE77-7486C0C7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C6B48-6B3F-4D39-993F-0119AC1E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0E0EA-4767-4EBC-A310-28945329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59254-2342-4B48-BA33-689EE79C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56B1C-8ECB-4E82-B0F1-E287CA29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283CC-FC50-4649-A668-12F5A2EF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565A-D094-40AC-B3D2-35C26EEA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CEAC4-2755-4548-BB1E-0F96067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CEB52-D6FF-4549-A95C-11528D66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C616E-42D6-436B-8CB4-1EE6501C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76CB5-E2EB-4D32-B9FE-3AFD0D67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8CD47-8D80-4379-AD56-125365C0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AF5D65-CFC1-4400-977E-F986BB40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7B21D9-860C-4F1D-AFAE-44472F2C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C842DE-DB26-4B92-B9EA-47B7A834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D8F6E4-91FD-4B0A-9416-C8C20FDA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39A7EF-4FC2-411C-9DA7-0C348C3B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CFD2-BAC5-4B03-8F2F-987AAF57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EE9EB0-30E3-4697-8B02-199E7129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D2800C-A218-40E6-AEB4-E9B0693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7211A5-5A3A-41E8-A317-EB0CF334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AA15B3-4AE6-43AD-9D25-72A70C30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23CFB8-BA55-4F33-B2FA-A62073D2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51ED8B-8F4D-4657-9B9F-7134222C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DD256E-0FC1-4FAD-9635-85BB64A1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FBA0-F4C9-4375-9BD4-69BC3F77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5CA2-87C3-4E27-911C-328CF5BE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8061-FC7F-4E36-91E1-91B85C9A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A309-0432-4ECB-8C50-72CFB186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9D6-6BD0-44AE-B20F-E85017CE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1BC9-EFD2-480B-8F5F-4B780A7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81EB-4C35-4327-BCFD-B1071D87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AD3C-5BC3-425F-B949-FC516A3A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9384-04C5-478A-96EC-F18E96D6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E8FB-E0AB-4F27-AA6B-CED52ADD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A1B0-A3A5-49BE-918F-0C5D1B0E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250F-10AD-476C-81F8-7C6546A6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A90E-8A2E-4412-9F00-C4069B36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7374-E02A-4D43-B223-1C7EF2C1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F359-3CBF-4891-8FB2-18C7D427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B16-AE3A-494F-9022-AD9F5A51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1AA0-D387-49CA-93AE-A2DACDE3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1D0F-EB97-4315-83B8-9A9458A3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2ACD-D997-4612-8FDF-325B8954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4081-A8CD-4296-8A6E-58DD4C65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CD46-6797-4EE8-AFA1-F3E7F3AA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D679-0F37-4DBF-83EE-518D623D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F3BD-058F-4293-AC94-8F51D02B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638C8-3BF5-4767-B04C-291B0A9C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C4157-8AF7-43DB-9D6D-0B56F22B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CAC6F-F55E-48A7-9DC1-D674D0F4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C10-E984-4D65-9F21-4904B538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18B6-9FC5-429E-9B65-3EBE5AEA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F985-A6E1-431C-8E68-17E5C104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AB5C-60E5-495B-9C6A-B4A7EA6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18CFC-A0E6-41A7-AA87-F991450E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FA787-2731-43E7-ABC8-46CFA87E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A5C1-D982-4735-9CC9-8E7FB836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4EB4-FAD3-41C1-A0F6-F440CFF3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A9CB0-C1D5-4661-829A-6E0941C8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2CE8-F700-4955-B37E-EA3F138D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F897-2FFC-4D62-BC5A-EC4F38F7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AE9-5383-4764-B12B-512275BB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0BB9-071F-4C1F-B854-753D36A2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EFCFA-452A-489F-8EE9-62C81C61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CAA15-8648-46C2-94D7-958C8E3E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D82DD-894A-4F4B-8840-8EAA2B89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16B07-68FA-44B9-B3FE-5D0963A7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AF09-8F29-4899-84B9-92784FB0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1FEAE-E56E-4482-9D60-FAB93DBB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27835-506C-4612-9381-C005593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B621-F502-4969-A05C-ECBBB5F8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4B9A5-739C-446D-BBB8-671C208C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93E-D0CE-49A0-B740-CEC4F626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B953F-7144-48C7-9717-A8B47BB8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A6EE5-FA3A-43A8-8975-FD28A794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72EEA-8D5C-4C32-BE88-55730339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0ACCB-82CC-4B0A-97AF-A9001364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0D9FC-21B4-49D2-82F8-F9F60387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2F8F4-0DBB-4943-855C-D1E7BD51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D53EF-3F2B-4687-9080-86EFC1AE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FC723-6938-4555-BFB8-BD31AE56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88B6A-FA5C-4469-9AD4-79F14183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DE82A-6F52-45F4-9630-A013810D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F24-DCA5-4106-A81D-9A43AD80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28780-11BC-406F-AABB-B413080A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D7DEF-E021-442A-83E2-6850C538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52F44-7025-457E-B5D1-FA490BF4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E8D74-DEF3-4AA8-978D-C6DF6DFB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6997D-94FB-4B6E-82E7-DA28E835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B6C67-828B-4EB4-9FE1-3D9A955E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CCAF9-6987-4130-8210-D4F365A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4A2D6-A1A1-452D-B531-C416D056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ECAA2-BC6D-4221-8BD7-D53895DF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CF2C1-A1F9-48B8-A8FE-8A86A3C8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0EE-FB71-405C-AAF7-A5BB351A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9A7E2-BA8B-499D-A7D9-DDCCC211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7B7A1-A972-4458-8FA5-F939EAA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2E297-1210-4329-BC82-334CF3E1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35B67-C01E-4B60-830C-08162DE9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31F2E-4747-4D2A-A178-146C95EA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FA800-2E4F-4BB9-8DF4-DBF12559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19FEB-3512-4064-AFBA-A03A1535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2468F-D17A-4EE4-BA65-1E9D7D1D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D67B4-FD53-4A92-92EE-4BD3730F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3F8A2-9BBA-48D9-ACA7-5C7057AE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266-BCB3-4E56-8DF4-4F5F6AF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93D1B-46CC-4899-8274-18144C27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D57BA-C6D9-4210-BEDC-1A9977B9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10DEC-2445-4EBB-92F0-45FA07E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06421-611A-4AAA-BEE8-08FF6410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A64EF-7FA4-45AD-A358-F0433AC5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D3B8F-8EF0-496D-8BA4-19877382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943FA-4CBA-4C41-B3F5-7422131B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9B78A-B143-4B7D-9724-3557BBF7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630DA-58F6-4E7F-BFE3-EE95AB66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894F0-B7EE-408B-8646-C0DE33A4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57ED-3897-4500-ABC2-3C2A8EEE1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9F90-13AC-443B-B909-A81E769EA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dt" idx="2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8D7A-0300-45F8-984C-E8B98DAB88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dt" idx="32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6654-C9B3-40A2-91A3-FC3669EBD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F743-A243-4814-90DA-341F815EA5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4807-540D-49F9-A178-5D4CD0C275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6623-317B-4BCF-BDC7-1FE2A81376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2AEA-9F9C-42B3-8669-24A3993B0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dt" idx="1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EA72-5D21-448C-8952-DBE205452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6BD9-A342-43BB-93D6-AC75893135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E46D-6E94-42AE-AF15-548652DBF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1176-672A-4582-8E83-630E632A9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7B99-4413-4957-AEC6-5512FA3581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merican Lit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Review of Act 1</a:t>
            </a:r>
            <a:br>
              <a:rPr sz="4200"/>
            </a:b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he Crucible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	</a:t>
            </a: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	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9" name="Picture 1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2359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ty/Ru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girls and daughters of squabbling fami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fflicted with a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eriou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h has been known to act out (crazy) in court when her family was up against their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becca N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r 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in Beverly speak well of her because of her charitable work in the village of Salem and neighboring village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es Cor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3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ingly accuses his wife of being involved i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uli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iles is illiterate and a little DUMB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med for everything that goes wrong in the village.?? Because he is DU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" descr=""/>
          <p:cNvPicPr/>
          <p:nvPr/>
        </p:nvPicPr>
        <p:blipFill>
          <a:blip r:embed="rId1"/>
          <a:stretch/>
        </p:blipFill>
        <p:spPr>
          <a:xfrm>
            <a:off x="6670800" y="228600"/>
            <a:ext cx="24382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lou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s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cial Functionalist or Social Accusations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lerance (Ir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Carthy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" descr=""/>
          <p:cNvPicPr/>
          <p:nvPr/>
        </p:nvPicPr>
        <p:blipFill>
          <a:blip r:embed="rId1"/>
          <a:stretch/>
        </p:blipFill>
        <p:spPr>
          <a:xfrm>
            <a:off x="5867280" y="380880"/>
            <a:ext cx="3151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end Par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ell li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reaches too often about hell/fin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obtained his position by unethical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0322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n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 babies died at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lames this on…demonic spirits/witchc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es Tituba because she had her daughter Ruth go to the forest and conjure spirits of the dead bab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1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86992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nams cont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Pu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 with many grievanc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James Bayley was supposed to become minister of Sa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ad grievances against him because he was the eldest son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ch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 in the vil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He attempted to contest his fathers will/stepbrother was going to receive more money than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1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260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ig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preserve her name and to divert attention away from her, she condemns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mes Tituba for conjuring spirits and making her drink chicken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r/Harm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/Bully/Manip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ens the girls of Salem to keep their mouths shut OR EL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1" descr=""/>
          <p:cNvPicPr/>
          <p:nvPr/>
        </p:nvPicPr>
        <p:blipFill>
          <a:blip r:embed="rId1"/>
          <a:stretch/>
        </p:blipFill>
        <p:spPr>
          <a:xfrm>
            <a:off x="5653080" y="0"/>
            <a:ext cx="26528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peg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as no social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rom Barbados (stereotype) is that they know more about witchcraft/superst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Pro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s Hypocr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gically Fla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hristian man who has an affair with a 17 year old gir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is marr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s that Rev. Ha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presence will cause more hysteria to be spread throughout Salem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6400800" y="33480"/>
            <a:ext cx="25779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end H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best of inten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pressures and growing hysteria will prove to add to the struggles of the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6:03:28Z</dcterms:created>
  <dc:creator>CCSD</dc:creator>
  <dc:description/>
  <dc:language>en-US</dc:language>
  <cp:lastModifiedBy>Sharon Spada</cp:lastModifiedBy>
  <dcterms:modified xsi:type="dcterms:W3CDTF">2015-09-08T16:43:18Z</dcterms:modified>
  <cp:revision>3</cp:revision>
  <dc:subject/>
  <dc:title>Review of Act 1 The Crucible  </dc:title>
</cp:coreProperties>
</file>